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79DC-2238-49EE-AF79-11AF76C57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ns go. Go, go, 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s, to st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for eng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els go r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gs that go. Go, go 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kes 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, yellow, green, 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es go.  Go, go 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planes 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, Up,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ps 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ash, splash spla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trucks 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13CD-8CC0-412C-BBD3-2642A5CC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379D-D92D-4569-8FA1-D7ADBBA9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4D1C-3729-462F-A143-4D1E92E8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3043-1060-4A98-8D67-49585A41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502A-0C2C-4A97-A032-653E9C88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FD8E-E739-4FEF-BCF4-B483D3F2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088-0247-4346-8995-EA405E28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5ED-CA5F-437B-9C02-3BDE0A3A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E4D-5992-420B-9170-AF4D01E2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7A4D-6964-4655-9585-27863C84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C896-158F-45C0-B5E9-F3B63732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276-BE99-4835-B9B9-1521701C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51CF-9A8A-4A4F-A849-A920526CD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gs that 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Kathy S. 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Œ2001 Kathy S. White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220320" cy="2938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53920" y="4572000"/>
            <a:ext cx="573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ains go. Go, go, g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2386080" cy="2838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324480" y="2133720"/>
            <a:ext cx="1857600" cy="1609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971800" y="419112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eys, to star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181480" y="990720"/>
            <a:ext cx="3019680" cy="2600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2120" y="3276720"/>
            <a:ext cx="3238560" cy="2600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800600" y="3657600"/>
            <a:ext cx="2519280" cy="2590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600200" y="91440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as for eng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410080" y="1066680"/>
            <a:ext cx="2638440" cy="2600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2828880" cy="2600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640" y="1523880"/>
            <a:ext cx="465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els go rou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23880" y="5257800"/>
            <a:ext cx="3252960" cy="912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95880" y="2286000"/>
            <a:ext cx="2490840" cy="2158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523880" y="2286000"/>
            <a:ext cx="3429000" cy="1695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952880" y="4800600"/>
            <a:ext cx="3429000" cy="1657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4840" y="1143000"/>
            <a:ext cx="677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ngs that go. Go, go 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828800" y="1295280"/>
            <a:ext cx="571500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he End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3276360" cy="3243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19520" y="1143000"/>
            <a:ext cx="41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kes 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1881360" cy="4038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0" y="685800"/>
            <a:ext cx="52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d, yellow, green,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4814640" cy="4281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057760" y="685800"/>
            <a:ext cx="534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ses go. Go, go g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010640" cy="2966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133720" y="129528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irplanes 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010640" cy="2966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666880" y="9907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, Up, 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724280" cy="3871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33720" y="99072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ips 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162840" cy="2212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75920" y="4267080"/>
            <a:ext cx="576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plash, splash splas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76720" y="2057400"/>
            <a:ext cx="3336840" cy="4800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0" y="106668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g trucks 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2T20:47:27Z</dcterms:created>
  <dc:creator>Dan White</dc:creator>
  <dc:description/>
  <dc:language>en-US</dc:language>
  <cp:lastModifiedBy> </cp:lastModifiedBy>
  <cp:lastPrinted>2001-07-05T02:14:37Z</cp:lastPrinted>
  <dcterms:modified xsi:type="dcterms:W3CDTF">2005-01-27T19:30:56Z</dcterms:modified>
  <cp:revision>6</cp:revision>
  <dc:subject/>
  <dc:title>No Slide Title</dc:title>
</cp:coreProperties>
</file>